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27.jpeg" ContentType="image/jpeg"/>
  <Override PartName="/ppt/media/image7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.png" ContentType="image/png"/>
  <Override PartName="/ppt/media/image25.jpeg" ContentType="image/jpeg"/>
  <Override PartName="/ppt/media/image1.png" ContentType="image/png"/>
  <Override PartName="/ppt/media/image2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2.png" ContentType="image/png"/>
  <Override PartName="/ppt/media/image24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F256-5704-4569-A4EB-90519E22A3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5C4D-62B1-4BA5-93E5-4314C652E5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43A1-9443-4812-B4EE-6965B01558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3AC5-62F4-406B-800D-D20C04560C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46DC-1A1E-4B4C-B2EE-B06CCCBDF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2AB5-7643-45F8-82C8-76E81A44B0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059B-A72E-461E-B599-5AC865F09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E5D6-581A-4BF2-AF37-70F4B56484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FE2F-258B-482C-9B0F-6EE13CBE4E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97BE-E3D1-4DBD-A4FF-C90329A803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B38E-15B8-4105-BC3C-BD4B94D90D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0D28-E2BE-4253-B8D9-3B20AD17CC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143C-55E6-4B94-AEF0-89740B9C2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010B-1CCB-47C7-96CF-7B75D870D5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Franklin Gothic Book"/>
              </a:rPr>
              <a:t>Лес    да     растения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F443-6CB4-4D15-87BB-5E73A8E656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749-6A5D-4AB5-9D7C-AA56623A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C75-1C79-4605-9B42-28CD1DA1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A90-DB63-4E30-9072-C874E32D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E04-82C4-48A8-A3A9-B76D1643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0577-FC3E-4C72-9D13-6B0A5D47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0800-527D-4A32-9252-BDDB40CB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7BD3-D595-4B55-87F9-7D2673D5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38BF-2273-4E8B-8326-D733C486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8BDA-46AC-46A9-85ED-C264A40D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32DA-8F2E-4ECC-8B65-A35F9924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2F72-3C19-418F-B7F6-25F66442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3A8-A14C-4BDF-8D84-3CCD83B1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EB76-42EF-4E5F-BF36-2C13A3DB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A0E1-5725-4A76-A803-41CA13CB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900B-5483-4999-B795-945C201D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D79F-E9AC-48AE-8BAA-C92AA062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5D56-B03B-471E-A564-98D5B459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03B-11BA-4C70-84BC-43F1E02D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584-9050-46ED-AC6C-5807C941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8D7-800C-4FDA-A2D7-B625B4B0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58F-7757-4769-8902-49A2DE95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55C-E2B5-4F1C-B858-5F6CCFFE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111-7CBC-4572-9F9E-5A263955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9F2-AE0A-4BDD-95AC-47818232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957E-5183-4E38-BE81-38176D76450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58BE-52EE-4485-82A0-11D07FC78CE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1214280" y="1357200"/>
            <a:ext cx="7704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287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E:\экология\fon lend .jpg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468360" y="404640"/>
            <a:ext cx="799128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марта - Всемирный день во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1628640"/>
            <a:ext cx="7989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апреля - Международный день пти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539640" y="3068640"/>
            <a:ext cx="7993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апреля - День Земли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684360" y="4221000"/>
            <a:ext cx="2374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июня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11280" y="5373720"/>
            <a:ext cx="83534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мирный день окружающей сре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10" descr="038_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сини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029_1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098_18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93680" y="1203120"/>
            <a:ext cx="80503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:\Школьная\Рамки\мультяш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WordArt 4" descr="Частый вертикальный"/>
          <p:cNvPicPr/>
          <p:nvPr/>
        </p:nvPicPr>
        <p:blipFill>
          <a:blip r:embed="rId2"/>
          <a:stretch/>
        </p:blipFill>
        <p:spPr>
          <a:xfrm>
            <a:off x="1432080" y="1352520"/>
            <a:ext cx="5657760" cy="3189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99680" y="1214280"/>
            <a:ext cx="8643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4786200" y="1785960"/>
            <a:ext cx="78588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5072040" y="3357720"/>
            <a:ext cx="91440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4500720" y="4500720"/>
            <a:ext cx="1000080" cy="71424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Управляющая кнопка: фильм 3"/>
          <p:cNvSpPr/>
          <p:nvPr/>
        </p:nvSpPr>
        <p:spPr>
          <a:xfrm>
            <a:off x="214200" y="592920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7301"/>
                </a:moveTo>
                <a:lnTo>
                  <a:pt x="5784" y="7301"/>
                </a:lnTo>
                <a:lnTo>
                  <a:pt x="6167" y="7667"/>
                </a:lnTo>
                <a:lnTo>
                  <a:pt x="15376" y="7667"/>
                </a:lnTo>
                <a:lnTo>
                  <a:pt x="15933" y="8224"/>
                </a:lnTo>
                <a:lnTo>
                  <a:pt x="15933" y="8772"/>
                </a:lnTo>
                <a:lnTo>
                  <a:pt x="17778" y="8772"/>
                </a:lnTo>
                <a:lnTo>
                  <a:pt x="18143" y="8224"/>
                </a:lnTo>
                <a:lnTo>
                  <a:pt x="18883" y="8224"/>
                </a:lnTo>
                <a:lnTo>
                  <a:pt x="18883" y="13376"/>
                </a:lnTo>
                <a:lnTo>
                  <a:pt x="18143" y="13376"/>
                </a:lnTo>
                <a:lnTo>
                  <a:pt x="17778" y="12828"/>
                </a:lnTo>
                <a:lnTo>
                  <a:pt x="15933" y="12828"/>
                </a:lnTo>
                <a:lnTo>
                  <a:pt x="15933" y="14107"/>
                </a:lnTo>
                <a:lnTo>
                  <a:pt x="6350" y="14107"/>
                </a:lnTo>
                <a:lnTo>
                  <a:pt x="6350" y="9877"/>
                </a:lnTo>
                <a:lnTo>
                  <a:pt x="6167" y="9877"/>
                </a:lnTo>
                <a:lnTo>
                  <a:pt x="5784" y="10243"/>
                </a:lnTo>
                <a:lnTo>
                  <a:pt x="4870" y="1024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2636640"/>
            <a:ext cx="800244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58920" y="234936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Ахтубинское водохранилищ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от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Дно бывшего озер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ибе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Небо и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755387_2005051710263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400" y="1500120"/>
            <a:ext cx="72831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Utilisation_Ramc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Небо и земля"/>
          <p:cNvPicPr/>
          <p:nvPr/>
        </p:nvPicPr>
        <p:blipFill>
          <a:blip r:embed="rId2"/>
          <a:stretch/>
        </p:blipFill>
        <p:spPr>
          <a:xfrm>
            <a:off x="500040" y="3786120"/>
            <a:ext cx="3333600" cy="2500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3909960" y="3786120"/>
            <a:ext cx="52340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ймите, это люди 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о Земли не будет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ждого из нас 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C:\Documents and Settings\Admin\Рабочий стол\1250606523_bestgif.narod.ru_131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250920" y="549360"/>
            <a:ext cx="6892920" cy="13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Book"/>
              </a:rPr>
              <a:t>Лес    да     растения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Book"/>
              <a:ea typeface="Franklin Gothic Book"/>
            </a:endParaRPr>
          </a:p>
        </p:txBody>
      </p:sp>
      <p:pic>
        <p:nvPicPr>
          <p:cNvPr id="138" name="WordArt 5" descr=""/>
          <p:cNvPicPr/>
          <p:nvPr/>
        </p:nvPicPr>
        <p:blipFill>
          <a:blip r:embed="rId2"/>
          <a:stretch/>
        </p:blipFill>
        <p:spPr>
          <a:xfrm>
            <a:off x="2346480" y="1962000"/>
            <a:ext cx="6711840" cy="1195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044"/>
          <p:cNvPicPr/>
          <p:nvPr/>
        </p:nvPicPr>
        <p:blipFill>
          <a:blip r:embed="rId3"/>
          <a:stretch/>
        </p:blipFill>
        <p:spPr>
          <a:xfrm flipH="1">
            <a:off x="-973440" y="177336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:\Documents and Settings\Admin\Мои документы\картинки\Животный мир\Медведи\Звери (29).gif"/>
          <p:cNvPicPr/>
          <p:nvPr/>
        </p:nvPicPr>
        <p:blipFill>
          <a:blip r:embed="rId4"/>
          <a:stretch/>
        </p:blipFill>
        <p:spPr>
          <a:xfrm>
            <a:off x="5435640" y="4869000"/>
            <a:ext cx="1731960" cy="1989000"/>
          </a:xfrm>
          <a:prstGeom prst="rect">
            <a:avLst/>
          </a:prstGeom>
          <a:ln w="0">
            <a:noFill/>
          </a:ln>
        </p:spPr>
      </p:pic>
      <p:pic>
        <p:nvPicPr>
          <p:cNvPr id="141" name="10-Дождь.mp3" descr=""/>
          <p:cNvPicPr/>
          <p:nvPr/>
        </p:nvPicPr>
        <p:blipFill>
          <a:blip r:embed="rId5"/>
          <a:stretch/>
        </p:blipFill>
        <p:spPr>
          <a:xfrm>
            <a:off x="5396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глобус 4"/>
          <p:cNvPicPr/>
          <p:nvPr/>
        </p:nvPicPr>
        <p:blipFill>
          <a:blip r:embed="rId1"/>
          <a:stretch/>
        </p:blipFill>
        <p:spPr>
          <a:xfrm>
            <a:off x="6659640" y="4697280"/>
            <a:ext cx="230508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48:40Z</dcterms:created>
  <dc:creator>User</dc:creator>
  <dc:description/>
  <dc:language>en-US</dc:language>
  <cp:lastModifiedBy>LEGION</cp:lastModifiedBy>
  <dcterms:modified xsi:type="dcterms:W3CDTF">2015-05-06T08:41:10Z</dcterms:modified>
  <cp:revision>52</cp:revision>
  <dc:subject/>
  <dc:title>Классный час на тему «Что вы могли бы сделать «здесь и сейчас» для улучшения окружающей жизни»</dc:title>
</cp:coreProperties>
</file>